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3E2EB-8B5B-411D-9D59-ADF3D37C3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27397-DCC0-4884-B298-13B23368B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09757-C512-44C3-B9A0-EBD27CF34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7FEE0-A8BB-49C3-A1D4-0C56F2576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1A6E-F4F9-4F2B-973F-C55A0DE1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C22F-54D3-4308-8A0C-F92C928B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41B7-B97C-4C13-A671-21478A0A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C36A-5115-4AF3-BD6A-7D9B562B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7DF1-B881-4668-B51B-17DA93F9C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962F-6092-4477-A95D-B30589F4E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A9E3-6AE9-452C-86CF-E6B53590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9EFF-0773-46CF-84BD-F31CF25B0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91DF-8611-4EF7-9F5A-5C35439EA5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30</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guring the Reserve Rati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1 vs. M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d Reserve – The minimum amount of reserves (in cash or equivalent) required by law. Normally, required reserves are proportional to the volume of depos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 Reserves – Amy reserves held in excess of the legal minimum. Banks strive for this to be at 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28600"/>
            <a:ext cx="8229600" cy="5897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1 – The narrowly defined money supply - the sum of all coins and paper money in circulation, plus certain checkable deposit balances at banks and savings institutions (includes travelers checks and negotiable order of withdraw accou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2 – The broadly defined money supply – the sum of all coins and paper money in circulation, plus all types of checking account balances, plus most forms of savings account balances, plus shares in money market mutual f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31</a:t>
            </a:r>
            <a:endParaRPr b="0" lang="en-US" sz="4400" spc="-1" strike="noStrike">
              <a:solidFill>
                <a:srgbClr val="000000"/>
              </a:solidFill>
              <a:latin typeface="Calibri"/>
            </a:endParaRPr>
          </a:p>
        </p:txBody>
      </p:sp>
      <p:sp>
        <p:nvSpPr>
          <p:cNvPr id="46" name="Subtitle 2"/>
          <p:cNvSpPr/>
          <p:nvPr/>
        </p:nvSpPr>
        <p:spPr>
          <a:xfrm>
            <a:off x="1371600" y="3352680"/>
            <a:ext cx="64008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ce of the F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ationary impact of expansionary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X-IM) sensitivity to 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Reserve System</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central bank created in 19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ce allows for monetary control to stay out of the “political thick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t means that the Fed’s decisions could work against fiscal policy deci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tary Polici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tary Policies that expand the money supply normally lowers i. Monetary policies that reduce the money supply usually increase 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i on C+I+G+(X-IM)</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Interest rates lead to lower investment sp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rises, total spending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falls, total spending incre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42:03Z</dcterms:created>
  <dc:creator>Dickson.J419</dc:creator>
  <dc:description/>
  <dc:language>en-US</dc:language>
  <cp:lastModifiedBy>jwussler</cp:lastModifiedBy>
  <dcterms:modified xsi:type="dcterms:W3CDTF">2009-01-27T15:17:46Z</dcterms:modified>
  <cp:revision>5</cp:revision>
  <dc:subject/>
  <dc:title>Chapter 30</dc:title>
</cp:coreProperties>
</file>